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TYPE.WAV" ContentType="audio/x-wav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988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4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0BE09F7-246C-48B5-8340-D4AC93E536BF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9E7851D-6226-4623-A08B-2E95B60A0412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257-ABF8-4045-93FA-8160B25F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9E1-DD60-4D4B-97C7-32BAAF17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393-7E3C-4C12-A214-2B8B1198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45B-EC22-4F13-B46F-E997BF7C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863-CA48-4227-8DF0-8152504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90E-CFC7-4A78-85F7-145861FA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098-9766-4669-8DA6-412D58D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389-A843-4DC7-B696-BA9B91A6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BAD-92CD-484F-9B84-E8C8C817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714-1594-4FC6-AC7E-25678F8E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476-4F54-4A0C-A468-923945AA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40E-6F38-4098-BDF4-90FB1B27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1830-67F9-4053-A0DF-8BABE0881699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A6AF-6FC5-421E-A9EC-60DC4097EDBC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920" y="3321000"/>
            <a:ext cx="17532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GB" sz="3200" spc="-1" strike="noStrike" baseline="-20000">
                <a:solidFill>
                  <a:srgbClr val="0000ff"/>
                </a:solidFill>
                <a:latin typeface="Arial"/>
              </a:rPr>
              <a:t>2g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100400"/>
            <a:ext cx="9144000" cy="2757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5715000" cy="307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"/>
          <p:cNvSpPr/>
          <p:nvPr/>
        </p:nvSpPr>
        <p:spPr>
          <a:xfrm>
            <a:off x="160920" y="501480"/>
            <a:ext cx="17352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GB" sz="3200" spc="-1" strike="noStrike" baseline="-20000">
                <a:solidFill>
                  <a:srgbClr val="0000ff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ffect of 10Dq on XAS: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ffect of 10Dq on XAS: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838080"/>
            <a:ext cx="914400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EXERCISE: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Try to reproduce this figure by calculating the crystal field multiplet spectrum of Ti4+ as a function of the crystal field strength. The parameter to change is the value of the line "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  <a:ea typeface="MS Mincho"/>
              </a:rPr>
              <a:t>BRANCH 4+ &gt; 0 0+     0.00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MS Mincho"/>
              </a:rPr>
              <a:t>"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3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Set the crystal field values to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negative numbers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 (this inverts the ordering of t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Verdana"/>
                <a:ea typeface="Arial Unicode MS"/>
              </a:rPr>
              <a:t>2g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 and e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Verdana"/>
                <a:ea typeface="Arial Unicode MS"/>
              </a:rPr>
              <a:t>g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  <a:ea typeface="Arial Unicode MS"/>
              </a:rPr>
              <a:t> state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8834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mparison with Experimen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mparison with Experimen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546120"/>
            <a:ext cx="8077320" cy="58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676520"/>
            <a:ext cx="1143000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10    1    0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14    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4    1    1 SHELL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SPIN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INTER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8099808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0 8065.4790 .00      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3.7762    0.0322    6.3023    4.6284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876920"/>
            <a:ext cx="1143000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8099808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8065.47800     0000000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0994040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0" y="457200"/>
          <a:ext cx="853452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53452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urning multiplet effects off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990720"/>
            <a:ext cx="9143280" cy="4670280"/>
            <a:chOff x="0" y="990720"/>
            <a:chExt cx="9143280" cy="4670280"/>
          </a:xfrm>
        </p:grpSpPr>
        <p:grpSp>
          <p:nvGrpSpPr>
            <p:cNvPr id="350" name=""/>
            <p:cNvGrpSpPr/>
            <p:nvPr/>
          </p:nvGrpSpPr>
          <p:grpSpPr>
            <a:xfrm>
              <a:off x="9360" y="995400"/>
              <a:ext cx="9123120" cy="4660920"/>
              <a:chOff x="9360" y="995400"/>
              <a:chExt cx="9123120" cy="466092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9360" y="995400"/>
                <a:ext cx="1648800" cy="822240"/>
                <a:chOff x="9360" y="995400"/>
                <a:chExt cx="1648800" cy="822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47240" y="995400"/>
                  <a:ext cx="1372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J in S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9360" y="995400"/>
                  <a:ext cx="16488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1658880" y="995400"/>
                <a:ext cx="1186200" cy="822240"/>
                <a:chOff x="1658880" y="995400"/>
                <a:chExt cx="1186200" cy="822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796040" y="995400"/>
                  <a:ext cx="911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658880" y="995400"/>
                  <a:ext cx="11862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846160" y="995400"/>
                <a:ext cx="3308400" cy="822240"/>
                <a:chOff x="2846160" y="995400"/>
                <a:chExt cx="3308400" cy="822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984400" y="995400"/>
                  <a:ext cx="303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Branching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846160" y="995400"/>
                  <a:ext cx="33084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155280" y="995400"/>
                <a:ext cx="1609560" cy="822240"/>
                <a:chOff x="6155280" y="995400"/>
                <a:chExt cx="1609560" cy="822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292440" y="995400"/>
                  <a:ext cx="133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in 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155280" y="995400"/>
                  <a:ext cx="1609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7765920" y="995400"/>
                <a:ext cx="1366560" cy="822240"/>
                <a:chOff x="7765920" y="995400"/>
                <a:chExt cx="1366560" cy="822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7903800" y="995400"/>
                  <a:ext cx="10904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765920" y="995400"/>
                  <a:ext cx="1366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9360" y="1817640"/>
                <a:ext cx="1648800" cy="639720"/>
                <a:chOff x="9360" y="1817640"/>
                <a:chExt cx="1648800" cy="6397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47240" y="181764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9360" y="181764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658880" y="1817640"/>
                <a:ext cx="1186200" cy="639720"/>
                <a:chOff x="1658880" y="1817640"/>
                <a:chExt cx="1186200" cy="6397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796040" y="181764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658880" y="181764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846160" y="1817640"/>
                <a:ext cx="3308400" cy="639720"/>
                <a:chOff x="2846160" y="1817640"/>
                <a:chExt cx="3308400" cy="6397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984400" y="181764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846160" y="181764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155280" y="1817640"/>
                <a:ext cx="1609560" cy="639720"/>
                <a:chOff x="6155280" y="1817640"/>
                <a:chExt cx="1609560" cy="6397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292440" y="181764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55280" y="181764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7765920" y="1817640"/>
                <a:ext cx="1366560" cy="639720"/>
                <a:chOff x="7765920" y="1817640"/>
                <a:chExt cx="1366560" cy="6397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903800" y="181764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765920" y="181764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9360" y="2457360"/>
                <a:ext cx="1648800" cy="639720"/>
                <a:chOff x="9360" y="2457360"/>
                <a:chExt cx="1648800" cy="6397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47240" y="2457360"/>
                  <a:ext cx="137268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9360" y="24573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1658880" y="2457360"/>
                <a:ext cx="1186200" cy="639720"/>
                <a:chOff x="1658880" y="2457360"/>
                <a:chExt cx="1186200" cy="6397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796040" y="2457360"/>
                  <a:ext cx="91152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58880" y="24573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846160" y="2457360"/>
                <a:ext cx="3308400" cy="639720"/>
                <a:chOff x="2846160" y="2457360"/>
                <a:chExt cx="3308400" cy="6397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984400" y="24573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846160" y="24573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155280" y="2457360"/>
                <a:ext cx="1609560" cy="639720"/>
                <a:chOff x="6155280" y="2457360"/>
                <a:chExt cx="1609560" cy="6397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292440" y="24573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155280" y="24573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765920" y="2457360"/>
                <a:ext cx="1366560" cy="639720"/>
                <a:chOff x="7765920" y="2457360"/>
                <a:chExt cx="1366560" cy="6397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903800" y="24573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765920" y="24573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360" y="3097080"/>
                <a:ext cx="1648800" cy="640080"/>
                <a:chOff x="9360" y="3097080"/>
                <a:chExt cx="1648800" cy="6400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47240" y="3097080"/>
                  <a:ext cx="1372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360" y="3097080"/>
                  <a:ext cx="16488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658880" y="3097080"/>
                <a:ext cx="1186200" cy="640080"/>
                <a:chOff x="1658880" y="3097080"/>
                <a:chExt cx="1186200" cy="6400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796040" y="3097080"/>
                  <a:ext cx="9115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658880" y="3097080"/>
                  <a:ext cx="11862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846160" y="3097080"/>
                <a:ext cx="3308400" cy="640080"/>
                <a:chOff x="2846160" y="3097080"/>
                <a:chExt cx="3308400" cy="6400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984400" y="3097080"/>
                  <a:ext cx="3031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, 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846160" y="3097080"/>
                  <a:ext cx="33084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155280" y="3097080"/>
                <a:ext cx="1609560" cy="640080"/>
                <a:chOff x="6155280" y="3097080"/>
                <a:chExt cx="1609560" cy="6400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292440" y="3097080"/>
                  <a:ext cx="133488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155280" y="3097080"/>
                  <a:ext cx="1609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765920" y="3097080"/>
                <a:ext cx="1366560" cy="640080"/>
                <a:chOff x="7765920" y="3097080"/>
                <a:chExt cx="1366560" cy="6400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903800" y="3097080"/>
                  <a:ext cx="109044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765920" y="3097080"/>
                  <a:ext cx="1366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9360" y="3737160"/>
                <a:ext cx="1648800" cy="639720"/>
                <a:chOff x="9360" y="3737160"/>
                <a:chExt cx="1648800" cy="6397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47240" y="373716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9360" y="37371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1658880" y="3737160"/>
                <a:ext cx="1186200" cy="639720"/>
                <a:chOff x="1658880" y="3737160"/>
                <a:chExt cx="1186200" cy="6397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796040" y="373716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58880" y="37371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846160" y="3737160"/>
                <a:ext cx="3308400" cy="639720"/>
                <a:chOff x="2846160" y="3737160"/>
                <a:chExt cx="3308400" cy="6397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2984400" y="37371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846160" y="37371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155280" y="3737160"/>
                <a:ext cx="1609560" cy="639720"/>
                <a:chOff x="6155280" y="3737160"/>
                <a:chExt cx="1609560" cy="6397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292440" y="37371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155280" y="37371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765920" y="3737160"/>
                <a:ext cx="1366560" cy="639720"/>
                <a:chOff x="7765920" y="3737160"/>
                <a:chExt cx="1366560" cy="639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903800" y="37371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765920" y="37371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9360" y="4376880"/>
                <a:ext cx="1648800" cy="639720"/>
                <a:chOff x="9360" y="4376880"/>
                <a:chExt cx="1648800" cy="6397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47240" y="437688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9360" y="437688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658880" y="4376880"/>
                <a:ext cx="1186200" cy="639720"/>
                <a:chOff x="1658880" y="4376880"/>
                <a:chExt cx="1186200" cy="6397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796040" y="437688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658880" y="437688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846160" y="4376880"/>
                <a:ext cx="3308400" cy="639720"/>
                <a:chOff x="2846160" y="4376880"/>
                <a:chExt cx="3308400" cy="6397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984400" y="437688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, E, 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846160" y="437688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155280" y="4376880"/>
                <a:ext cx="1609560" cy="639720"/>
                <a:chOff x="6155280" y="4376880"/>
                <a:chExt cx="1609560" cy="6397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292440" y="437688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155280" y="437688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765920" y="4376880"/>
                <a:ext cx="1366560" cy="639720"/>
                <a:chOff x="7765920" y="4376880"/>
                <a:chExt cx="1366560" cy="639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903800" y="437688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765920" y="437688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9360" y="5016600"/>
                <a:ext cx="1648800" cy="639720"/>
                <a:chOff x="9360" y="5016600"/>
                <a:chExt cx="1648800" cy="6397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47240" y="501660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9360" y="501660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1658880" y="5016600"/>
                <a:ext cx="1186200" cy="639720"/>
                <a:chOff x="1658880" y="5016600"/>
                <a:chExt cx="1186200" cy="6397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1796040" y="501660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658880" y="501660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2846160" y="5016600"/>
                <a:ext cx="3308400" cy="639720"/>
                <a:chOff x="2846160" y="5016600"/>
                <a:chExt cx="3308400" cy="6397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984400" y="501660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846160" y="501660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155280" y="5016600"/>
                <a:ext cx="1609560" cy="639720"/>
                <a:chOff x="6155280" y="5016600"/>
                <a:chExt cx="1609560" cy="6397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292440" y="501660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155280" y="501660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765920" y="5016600"/>
                <a:ext cx="1366560" cy="639720"/>
                <a:chOff x="7765920" y="5016600"/>
                <a:chExt cx="1366560" cy="6397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903800" y="501660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765920" y="501660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456" name=""/>
            <p:cNvSpPr/>
            <p:nvPr/>
          </p:nvSpPr>
          <p:spPr>
            <a:xfrm>
              <a:off x="0" y="990720"/>
              <a:ext cx="9143280" cy="46702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19720" y="2362320"/>
            <a:ext cx="380880" cy="53316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"/>
          <p:cNvSpPr/>
          <p:nvPr/>
        </p:nvSpPr>
        <p:spPr>
          <a:xfrm>
            <a:off x="4419720" y="43434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6576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 on XA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"/>
          <p:cNvSpPr/>
          <p:nvPr/>
        </p:nvSpPr>
        <p:spPr>
          <a:xfrm>
            <a:off x="1623960" y="5791320"/>
            <a:ext cx="564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dipole|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goes to 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609480"/>
            <a:ext cx="9143280" cy="5140080"/>
            <a:chOff x="0" y="609480"/>
            <a:chExt cx="9143280" cy="5140080"/>
          </a:xfrm>
        </p:grpSpPr>
        <p:grpSp>
          <p:nvGrpSpPr>
            <p:cNvPr id="463" name=""/>
            <p:cNvGrpSpPr/>
            <p:nvPr/>
          </p:nvGrpSpPr>
          <p:grpSpPr>
            <a:xfrm>
              <a:off x="9720" y="614520"/>
              <a:ext cx="9121320" cy="5128920"/>
              <a:chOff x="9720" y="614520"/>
              <a:chExt cx="9121320" cy="5128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9720" y="614520"/>
                <a:ext cx="1678680" cy="731880"/>
                <a:chOff x="9720" y="614520"/>
                <a:chExt cx="1678680" cy="7318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153720" y="614520"/>
                  <a:ext cx="139068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in 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9720" y="614520"/>
                  <a:ext cx="1678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1689120" y="614520"/>
                <a:ext cx="1423800" cy="731880"/>
                <a:chOff x="1689120" y="614520"/>
                <a:chExt cx="1423800" cy="7318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832400" y="61452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689120" y="61452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113640" y="614520"/>
                <a:ext cx="1424520" cy="731880"/>
                <a:chOff x="3113640" y="614520"/>
                <a:chExt cx="1424520" cy="7318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257640" y="61452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113640" y="61452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4539240" y="614520"/>
                <a:ext cx="1741680" cy="731880"/>
                <a:chOff x="4539240" y="614520"/>
                <a:chExt cx="1741680" cy="7318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4682520" y="614520"/>
                  <a:ext cx="14551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in 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4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539240" y="614520"/>
                  <a:ext cx="1741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281640" y="614520"/>
                <a:ext cx="1424520" cy="731880"/>
                <a:chOff x="6281640" y="614520"/>
                <a:chExt cx="1424520" cy="7318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425640" y="61452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281640" y="61452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707240" y="614520"/>
                <a:ext cx="1423800" cy="731880"/>
                <a:chOff x="7707240" y="614520"/>
                <a:chExt cx="1423800" cy="7318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850520" y="61452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707240" y="61452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9720" y="1346760"/>
                <a:ext cx="1678680" cy="697320"/>
                <a:chOff x="9720" y="1346760"/>
                <a:chExt cx="1678680" cy="6973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53720" y="1346760"/>
                  <a:ext cx="139068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9720" y="1346760"/>
                  <a:ext cx="1678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1689120" y="1346760"/>
                <a:ext cx="1423800" cy="697320"/>
                <a:chOff x="1689120" y="1346760"/>
                <a:chExt cx="1423800" cy="6973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1832400" y="134676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689120" y="134676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113640" y="1346760"/>
                <a:ext cx="1424520" cy="697320"/>
                <a:chOff x="3113640" y="1346760"/>
                <a:chExt cx="1424520" cy="6973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257640" y="134676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13640" y="134676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39240" y="1346760"/>
                <a:ext cx="1741680" cy="697320"/>
                <a:chOff x="4539240" y="1346760"/>
                <a:chExt cx="1741680" cy="6973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682520" y="1346760"/>
                  <a:ext cx="14551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39240" y="1346760"/>
                  <a:ext cx="1741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281640" y="1346760"/>
                <a:ext cx="1424520" cy="697320"/>
                <a:chOff x="6281640" y="1346760"/>
                <a:chExt cx="1424520" cy="6973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425640" y="134676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+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81640" y="134676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707240" y="1346760"/>
                <a:ext cx="1423800" cy="697320"/>
                <a:chOff x="7707240" y="1346760"/>
                <a:chExt cx="1423800" cy="6973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850520" y="134676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707240" y="134676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9720" y="2044800"/>
                <a:ext cx="1678680" cy="697680"/>
                <a:chOff x="9720" y="2044800"/>
                <a:chExt cx="1678680" cy="69768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53720" y="2044800"/>
                  <a:ext cx="139068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9720" y="2044800"/>
                  <a:ext cx="167868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1689120" y="2044800"/>
                <a:ext cx="1423800" cy="697680"/>
                <a:chOff x="1689120" y="2044800"/>
                <a:chExt cx="1423800" cy="6976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832400" y="2044800"/>
                  <a:ext cx="113724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89120" y="2044800"/>
                  <a:ext cx="142380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113640" y="2044800"/>
                <a:ext cx="1424520" cy="697680"/>
                <a:chOff x="3113640" y="2044800"/>
                <a:chExt cx="1424520" cy="6976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257640" y="2044800"/>
                  <a:ext cx="113652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13640" y="2044800"/>
                  <a:ext cx="142452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4539240" y="2044800"/>
                <a:ext cx="1741680" cy="697680"/>
                <a:chOff x="4539240" y="2044800"/>
                <a:chExt cx="1741680" cy="697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682520" y="2044800"/>
                  <a:ext cx="1455120" cy="697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539240" y="2044800"/>
                  <a:ext cx="174168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281640" y="2044800"/>
                <a:ext cx="1424520" cy="697680"/>
                <a:chOff x="6281640" y="2044800"/>
                <a:chExt cx="1424520" cy="6976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425640" y="2044800"/>
                  <a:ext cx="1136520" cy="69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281640" y="2044800"/>
                  <a:ext cx="142452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707240" y="2044800"/>
                <a:ext cx="1423800" cy="697680"/>
                <a:chOff x="7707240" y="2044800"/>
                <a:chExt cx="1423800" cy="6976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850520" y="2044800"/>
                  <a:ext cx="1137240" cy="697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07240" y="2044800"/>
                  <a:ext cx="1423800" cy="697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9720" y="2742840"/>
                <a:ext cx="1678680" cy="697320"/>
                <a:chOff x="9720" y="2742840"/>
                <a:chExt cx="1678680" cy="6973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53720" y="2742840"/>
                  <a:ext cx="1390680" cy="69732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9720" y="2742840"/>
                  <a:ext cx="1678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1689120" y="2742840"/>
                <a:ext cx="1423800" cy="697320"/>
                <a:chOff x="1689120" y="2742840"/>
                <a:chExt cx="1423800" cy="6973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832400" y="2742840"/>
                  <a:ext cx="1137240" cy="69732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689120" y="274284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3113640" y="2742840"/>
                <a:ext cx="1424520" cy="697320"/>
                <a:chOff x="3113640" y="2742840"/>
                <a:chExt cx="1424520" cy="6973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3257640" y="274284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+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13640" y="274284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539240" y="2742840"/>
                <a:ext cx="1741680" cy="697320"/>
                <a:chOff x="4539240" y="2742840"/>
                <a:chExt cx="1741680" cy="6973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682520" y="2742840"/>
                  <a:ext cx="14551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539240" y="2742840"/>
                  <a:ext cx="1741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281640" y="2742840"/>
                <a:ext cx="1424520" cy="697320"/>
                <a:chOff x="6281640" y="2742840"/>
                <a:chExt cx="1424520" cy="6973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425640" y="274284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+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281640" y="274284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707240" y="2742840"/>
                <a:ext cx="1423800" cy="697320"/>
                <a:chOff x="7707240" y="2742840"/>
                <a:chExt cx="1423800" cy="6973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850520" y="274284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707240" y="274284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9720" y="3440880"/>
                <a:ext cx="1678680" cy="697320"/>
                <a:chOff x="9720" y="3440880"/>
                <a:chExt cx="1678680" cy="6973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153720" y="3440880"/>
                  <a:ext cx="139068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9720" y="3440880"/>
                  <a:ext cx="1678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1689120" y="3440880"/>
                <a:ext cx="1423800" cy="697320"/>
                <a:chOff x="1689120" y="3440880"/>
                <a:chExt cx="1423800" cy="6973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832400" y="344088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689120" y="344088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113640" y="3440880"/>
                <a:ext cx="1424520" cy="697320"/>
                <a:chOff x="3113640" y="3440880"/>
                <a:chExt cx="1424520" cy="6973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257640" y="344088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+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113640" y="344088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4539240" y="3440880"/>
                <a:ext cx="1741680" cy="697320"/>
                <a:chOff x="4539240" y="3440880"/>
                <a:chExt cx="1741680" cy="6973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682520" y="3440880"/>
                  <a:ext cx="14551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539240" y="3440880"/>
                  <a:ext cx="174168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281640" y="3440880"/>
                <a:ext cx="1424520" cy="697320"/>
                <a:chOff x="6281640" y="3440880"/>
                <a:chExt cx="1424520" cy="6973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425640" y="3440880"/>
                  <a:ext cx="113652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281640" y="3440880"/>
                  <a:ext cx="142452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707240" y="3440880"/>
                <a:ext cx="1423800" cy="697320"/>
                <a:chOff x="7707240" y="3440880"/>
                <a:chExt cx="1423800" cy="697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850520" y="3440880"/>
                  <a:ext cx="113724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707240" y="3440880"/>
                  <a:ext cx="1423800" cy="697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9720" y="4138920"/>
                <a:ext cx="1678680" cy="872280"/>
                <a:chOff x="9720" y="4138920"/>
                <a:chExt cx="1678680" cy="8722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153720" y="4138920"/>
                  <a:ext cx="139068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9720" y="4138920"/>
                  <a:ext cx="167868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1689120" y="4138920"/>
                <a:ext cx="1423800" cy="872280"/>
                <a:chOff x="1689120" y="4138920"/>
                <a:chExt cx="1423800" cy="8722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832400" y="4138920"/>
                  <a:ext cx="113724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689120" y="4138920"/>
                  <a:ext cx="142380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113640" y="4138920"/>
                <a:ext cx="1424520" cy="872280"/>
                <a:chOff x="3113640" y="4138920"/>
                <a:chExt cx="1424520" cy="8722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257640" y="4138920"/>
                  <a:ext cx="11365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B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113640" y="4138920"/>
                  <a:ext cx="142452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4539240" y="4138920"/>
                <a:ext cx="1741680" cy="872280"/>
                <a:chOff x="4539240" y="4138920"/>
                <a:chExt cx="1741680" cy="8722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682520" y="4138920"/>
                  <a:ext cx="1455120" cy="87228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539240" y="4138920"/>
                  <a:ext cx="174168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6281640" y="4138920"/>
                <a:ext cx="1424520" cy="872280"/>
                <a:chOff x="6281640" y="4138920"/>
                <a:chExt cx="1424520" cy="8722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6425640" y="4138920"/>
                  <a:ext cx="11365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7+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281640" y="4138920"/>
                  <a:ext cx="142452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707240" y="4138920"/>
                <a:ext cx="1423800" cy="872280"/>
                <a:chOff x="7707240" y="4138920"/>
                <a:chExt cx="1423800" cy="8722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850520" y="4138920"/>
                  <a:ext cx="1137240" cy="87228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707240" y="4138920"/>
                  <a:ext cx="1423800" cy="87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9720" y="5011560"/>
                <a:ext cx="1678680" cy="731880"/>
                <a:chOff x="9720" y="5011560"/>
                <a:chExt cx="1678680" cy="7318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53720" y="5011560"/>
                  <a:ext cx="139068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9720" y="5011560"/>
                  <a:ext cx="1678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1689120" y="5011560"/>
                <a:ext cx="1423800" cy="731880"/>
                <a:chOff x="1689120" y="5011560"/>
                <a:chExt cx="1423800" cy="7318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1832400" y="501156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89120" y="501156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3113640" y="5011560"/>
                <a:ext cx="1424520" cy="731880"/>
                <a:chOff x="3113640" y="5011560"/>
                <a:chExt cx="1424520" cy="73188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3257640" y="501156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113640" y="501156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4539240" y="5011560"/>
                <a:ext cx="1741680" cy="731880"/>
                <a:chOff x="4539240" y="5011560"/>
                <a:chExt cx="1741680" cy="7318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4682520" y="5011560"/>
                  <a:ext cx="14551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539240" y="5011560"/>
                  <a:ext cx="174168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81640" y="5011560"/>
                <a:ext cx="1424520" cy="731880"/>
                <a:chOff x="6281640" y="5011560"/>
                <a:chExt cx="1424520" cy="7318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425640" y="5011560"/>
                  <a:ext cx="113652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281640" y="5011560"/>
                  <a:ext cx="142452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7707240" y="5011560"/>
                <a:ext cx="1423800" cy="731880"/>
                <a:chOff x="7707240" y="5011560"/>
                <a:chExt cx="1423800" cy="73188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850520" y="5011560"/>
                  <a:ext cx="113724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707240" y="5011560"/>
                  <a:ext cx="1423800" cy="731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590" name=""/>
            <p:cNvSpPr/>
            <p:nvPr/>
          </p:nvSpPr>
          <p:spPr>
            <a:xfrm>
              <a:off x="0" y="609480"/>
              <a:ext cx="9143280" cy="51400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wer symmetr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27432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7432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20574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4114800"/>
            <a:ext cx="38124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6" name=""/>
          <p:cNvSpPr/>
          <p:nvPr/>
        </p:nvSpPr>
        <p:spPr>
          <a:xfrm>
            <a:off x="1316520" y="5791320"/>
            <a:ext cx="595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goes to 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E+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 E+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867200" cy="57056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4778280" y="609480"/>
            <a:ext cx="4365720" cy="5257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wer symmetry and angular dep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0" name=""/>
          <p:cNvSpPr/>
          <p:nvPr/>
        </p:nvSpPr>
        <p:spPr>
          <a:xfrm>
            <a:off x="5399280" y="5873760"/>
            <a:ext cx="3722400" cy="94716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Hasselstrom et al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PRB 62, 11192 (2000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artly filled 3d-shell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9480"/>
            <a:ext cx="9144000" cy="5753160"/>
            <a:chOff x="0" y="609480"/>
            <a:chExt cx="9144000" cy="5753160"/>
          </a:xfrm>
        </p:grpSpPr>
        <p:sp>
          <p:nvSpPr>
            <p:cNvPr id="103" name=""/>
            <p:cNvSpPr/>
            <p:nvPr/>
          </p:nvSpPr>
          <p:spPr>
            <a:xfrm>
              <a:off x="0" y="609480"/>
              <a:ext cx="9144000" cy="57531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280" y="1010880"/>
              <a:ext cx="201132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n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8280" y="2616480"/>
              <a:ext cx="219456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rcg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34680" y="1010880"/>
              <a:ext cx="219456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f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34680" y="2616480"/>
              <a:ext cx="237744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m14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8600" y="101088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n2 als3ti4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8600" y="261648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g2 als4ti4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1120" y="1635120"/>
              <a:ext cx="0" cy="2674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84720" y="1902600"/>
              <a:ext cx="54864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84720" y="1902600"/>
              <a:ext cx="0" cy="5349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13520" y="1902600"/>
              <a:ext cx="2011320" cy="5349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MODIFY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280" y="5488560"/>
              <a:ext cx="201132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plo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08600" y="548856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plo2 als3ti4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34680" y="5488560"/>
              <a:ext cx="201168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ps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280" y="4088160"/>
              <a:ext cx="219456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rac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08600" y="4088160"/>
              <a:ext cx="2560320" cy="53496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ac2 als4ti4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34680" y="4088160"/>
              <a:ext cx="2011680" cy="53496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4ti4a.or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754520" y="4623120"/>
              <a:ext cx="1279800" cy="802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754520" y="3151440"/>
              <a:ext cx="1279800" cy="802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70028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3" name="tsdd8oh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9338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: Tanabe-Sugan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1676520"/>
            <a:ext cx="9144000" cy="14655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1 -0.801748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603819  0.943165  5.31548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1 -1.472040 -0.734825  0.914685  1.097910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  -1.492799 -0.730041 -0.515086  0.855732  1.9067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2 -2.572434 -1.420765 -0.629293  0.391811  0.886141  1.96893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A2 -1.40013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enerating TSD from the progra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a file gives ground state energ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5562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Order states by energy: complicated due to 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657600"/>
            <a:ext cx="12953880" cy="17398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1                     -0.801748                      0.603819  0.943165  5.31548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1           -1.472040 -0.734825                      0.914685  1.097910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            -1.492799 -0.730041 -0.515086            0.855732  1.9067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2 -2.572434 -1.420765 -0.629293            0.391811  0.886141  1.96893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2           -1.40013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A2              3T2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T1          1E          1T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1676520"/>
            <a:ext cx="11430000" cy="6426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i2+ 2p06 3d08     4    0.0000   12.2341    7.5981    0.0832    0.0000HR9999999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Ni2+ 2p06 3d08     4    0.0000   12.2341    7.5981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0.00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0.0000HR9999999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enerating TSD from the progra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z.rcg file switches off LS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  <a:ea typeface="Arial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3T2 = T1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T2 = A2 + E + T1 + T2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2895480"/>
            <a:ext cx="12953880" cy="20142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1                     -0.687617            0.599870  0.883427           5.30654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1           -1.441638 -0.687618                      0.883427  1.09305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            -1.441639 -0.687617 -0.630865            0.883427  1.9012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2 -2.558384 -1.441639 -0.687618            0.422527  0.883427           1.96457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2           -1.44163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A2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T2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3T1           1E            1A1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3T1          1T1        1A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1T2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1E          1T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686800" cy="611820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on of transition matrice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.ora gives these matri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educe Slater integrals to 5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1676520"/>
            <a:ext cx="12953880" cy="44830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ONS for ACTOR:PLANE           TRANSI        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 5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(  0+   1-   1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7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21 ZERO, 7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17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 0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2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5 ZERO, 3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18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 1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7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19 ZERO, 9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19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 2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5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ATRIX HAS 14 ZERO, 6 REAL and 0 COMPLEX ELEM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CULATING MATRIX for TRIAD 20 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(  1+   1-  ^1- 0)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(4*8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MATRIX HAS 21 ZERO, 11 REAL and 0 COMPLEX ELEMENT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.ora gives these matri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educe Slater integrals to 5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1676520"/>
            <a:ext cx="12953880" cy="3385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42  (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^1+   1-   1-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0) (6*7)  DIM :3:3:3   ACTOR PLANE         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--- MATRIX ----      PRINTTRANS    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  852.903   854.301   855.088   855.312   856.419   871.640   873.09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-2.57243:  0.084753  0.000524  0.073496  0.054465  0.000005  0.139178  0.00516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1.42076:  0.010636  0.028672  0.181098  0.000208  0.040343  0.069081  0.07420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-0.62929:  0.013535  0.044253  0.100561  0.027063  0.059448  0.003079  0.08816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39181:  0.001357  0.004753  0.002328  0.047212  0.190545  0.031137  0.07826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0.88614:  0.012572  0.029788  0.082503  0.002168  0.033906  0.000366  0.14005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1.96893:  0.000184  0.001708  0.001732  0.012048  0.088378  0.022026  0.069046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alculation of transition matrice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5ni2.pl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Reduce Slater integrals to 5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1143000"/>
            <a:ext cx="792468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ostscript als5ni2t2.ps</a:t>
            </a: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nergy_range 850 88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Ni 2pX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2 999. range 0 860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4 999.   range 860 999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gaussian 0.2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GROUND STATE AL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old_racah als5ni2.or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T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urier New"/>
                <a:ea typeface="MS Mincho"/>
              </a:rPr>
              <a:t>spectrum fstate 1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 fstate 2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T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 fstate ^1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T2 to A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 fstate ^0-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otting the resul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otting the resul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7" name=""/>
          <p:cNvSpPr/>
          <p:nvPr/>
        </p:nvSpPr>
        <p:spPr>
          <a:xfrm>
            <a:off x="3672360" y="3657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2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8" name=""/>
          <p:cNvSpPr/>
          <p:nvPr/>
        </p:nvSpPr>
        <p:spPr>
          <a:xfrm>
            <a:off x="8150760" y="7621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9" name=""/>
          <p:cNvSpPr/>
          <p:nvPr/>
        </p:nvSpPr>
        <p:spPr>
          <a:xfrm>
            <a:off x="3695040" y="7621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0" name=""/>
          <p:cNvSpPr/>
          <p:nvPr/>
        </p:nvSpPr>
        <p:spPr>
          <a:xfrm>
            <a:off x="8369640" y="373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1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owest energy of 4 different symmetr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39080" cy="600876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0001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otting the resul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6" name=""/>
          <p:cNvSpPr/>
          <p:nvPr/>
        </p:nvSpPr>
        <p:spPr>
          <a:xfrm>
            <a:off x="3062160" y="365760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L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7" name=""/>
          <p:cNvSpPr/>
          <p:nvPr/>
        </p:nvSpPr>
        <p:spPr>
          <a:xfrm>
            <a:off x="7697520" y="7621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8" name=""/>
          <p:cNvSpPr/>
          <p:nvPr/>
        </p:nvSpPr>
        <p:spPr>
          <a:xfrm>
            <a:off x="3656880" y="7621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9" name=""/>
          <p:cNvSpPr/>
          <p:nvPr/>
        </p:nvSpPr>
        <p:spPr>
          <a:xfrm>
            <a:off x="6612840" y="3733920"/>
            <a:ext cx="21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 no 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0" name=""/>
          <p:cNvSpPr/>
          <p:nvPr/>
        </p:nvSpPr>
        <p:spPr>
          <a:xfrm>
            <a:off x="19432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1" name=""/>
          <p:cNvSpPr/>
          <p:nvPr/>
        </p:nvSpPr>
        <p:spPr>
          <a:xfrm>
            <a:off x="177624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ffect of spin-orbit coupling and crystal field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59925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 spin-orbit coupling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76520"/>
            <a:ext cx="11430000" cy="30142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10    1    0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14    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4    1    1 SHELL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SPIN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Arial Unicode MS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000000 INTER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0 8065.4790 .00      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3.7762    0.0322    6.3023    4.6284HR99999999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486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the first line in als4ti4a.rcf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70028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56" name="tsdco2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4148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 spin-orbit coupling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780000" cy="59817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ffect of 10Dq on XAS: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571500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876920" cy="337824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igh-spin or Low-spi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3" name=""/>
          <p:cNvSpPr/>
          <p:nvPr/>
        </p:nvSpPr>
        <p:spPr>
          <a:xfrm>
            <a:off x="4911840" y="1752480"/>
            <a:ext cx="18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Dq &gt; 3J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nd 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4" name=""/>
          <p:cNvSpPr/>
          <p:nvPr/>
        </p:nvSpPr>
        <p:spPr>
          <a:xfrm>
            <a:off x="4975200" y="3733920"/>
            <a:ext cx="18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Dq &gt; 2J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nd 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0" y="533520"/>
            <a:ext cx="9143280" cy="5867280"/>
            <a:chOff x="0" y="533520"/>
            <a:chExt cx="9143280" cy="5867280"/>
          </a:xfrm>
        </p:grpSpPr>
        <p:grpSp>
          <p:nvGrpSpPr>
            <p:cNvPr id="666" name=""/>
            <p:cNvGrpSpPr/>
            <p:nvPr/>
          </p:nvGrpSpPr>
          <p:grpSpPr>
            <a:xfrm>
              <a:off x="11160" y="537120"/>
              <a:ext cx="9118800" cy="5859360"/>
              <a:chOff x="11160" y="537120"/>
              <a:chExt cx="9118800" cy="585936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1160" y="537120"/>
                <a:ext cx="1710000" cy="795240"/>
                <a:chOff x="11160" y="537120"/>
                <a:chExt cx="1710000" cy="795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76760" y="537120"/>
                  <a:ext cx="137808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Conf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1160" y="537120"/>
                  <a:ext cx="171000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1721880" y="537120"/>
                <a:ext cx="1860120" cy="795240"/>
                <a:chOff x="1721880" y="537120"/>
                <a:chExt cx="1860120" cy="7952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1887480" y="537120"/>
                  <a:ext cx="152820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Ground State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O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721880" y="537120"/>
                  <a:ext cx="186012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3582720" y="537120"/>
                <a:ext cx="2738160" cy="795240"/>
                <a:chOff x="3582720" y="537120"/>
                <a:chExt cx="2738160" cy="795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3747600" y="537120"/>
                  <a:ext cx="240804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HS Ground State in O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582720" y="537120"/>
                  <a:ext cx="273816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6321960" y="537120"/>
                <a:ext cx="2808000" cy="795240"/>
                <a:chOff x="6321960" y="537120"/>
                <a:chExt cx="2808000" cy="79524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6487560" y="537120"/>
                  <a:ext cx="2476080" cy="79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LS Ground State in O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1960" y="537120"/>
                  <a:ext cx="2808000" cy="795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1160" y="1332360"/>
                <a:ext cx="1710000" cy="506160"/>
                <a:chOff x="11160" y="1332360"/>
                <a:chExt cx="1710000" cy="5061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176760" y="133236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1160" y="133236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1721880" y="1332360"/>
                <a:ext cx="1860120" cy="506160"/>
                <a:chOff x="1721880" y="1332360"/>
                <a:chExt cx="1860120" cy="5061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1887480" y="133236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721880" y="133236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582720" y="1332360"/>
                <a:ext cx="2738160" cy="506160"/>
                <a:chOff x="3582720" y="1332360"/>
                <a:chExt cx="2738160" cy="5061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747600" y="133236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582720" y="133236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6321960" y="1332360"/>
                <a:ext cx="2808000" cy="506160"/>
                <a:chOff x="6321960" y="1332360"/>
                <a:chExt cx="2808000" cy="5061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6487560" y="133236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321960" y="133236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1160" y="1838520"/>
                <a:ext cx="1710000" cy="506520"/>
                <a:chOff x="11160" y="1838520"/>
                <a:chExt cx="1710000" cy="50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76760" y="1838520"/>
                  <a:ext cx="1378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1160" y="1838520"/>
                  <a:ext cx="1710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1721880" y="1838520"/>
                <a:ext cx="1860120" cy="506520"/>
                <a:chOff x="1721880" y="1838520"/>
                <a:chExt cx="1860120" cy="5065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1887480" y="1838520"/>
                  <a:ext cx="152820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721880" y="1838520"/>
                  <a:ext cx="186012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582720" y="1838520"/>
                <a:ext cx="2738160" cy="506520"/>
                <a:chOff x="3582720" y="1838520"/>
                <a:chExt cx="2738160" cy="5065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3747600" y="1838520"/>
                  <a:ext cx="240804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82720" y="1838520"/>
                  <a:ext cx="273816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6321960" y="1838520"/>
                <a:ext cx="2808000" cy="506520"/>
                <a:chOff x="6321960" y="1838520"/>
                <a:chExt cx="2808000" cy="5065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6487560" y="1838520"/>
                  <a:ext cx="2476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321960" y="1838520"/>
                  <a:ext cx="2808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11160" y="2345400"/>
                <a:ext cx="1710000" cy="506160"/>
                <a:chOff x="11160" y="2345400"/>
                <a:chExt cx="1710000" cy="50616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176760" y="234540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1160" y="234540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1721880" y="2345400"/>
                <a:ext cx="1860120" cy="506160"/>
                <a:chOff x="1721880" y="2345400"/>
                <a:chExt cx="1860120" cy="5061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887480" y="234540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721880" y="234540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3582720" y="2345400"/>
                <a:ext cx="2738160" cy="506160"/>
                <a:chOff x="3582720" y="2345400"/>
                <a:chExt cx="2738160" cy="50616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3747600" y="234540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582720" y="234540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321960" y="2345400"/>
                <a:ext cx="2808000" cy="506160"/>
                <a:chOff x="6321960" y="2345400"/>
                <a:chExt cx="2808000" cy="50616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6487560" y="234540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21960" y="234540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1160" y="2851560"/>
                <a:ext cx="1710000" cy="506160"/>
                <a:chOff x="11160" y="2851560"/>
                <a:chExt cx="1710000" cy="5061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76760" y="285156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1160" y="285156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1721880" y="2851560"/>
                <a:ext cx="1860120" cy="506160"/>
                <a:chOff x="1721880" y="2851560"/>
                <a:chExt cx="1860120" cy="50616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1887480" y="285156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721880" y="285156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3582720" y="2851560"/>
                <a:ext cx="2738160" cy="506160"/>
                <a:chOff x="3582720" y="2851560"/>
                <a:chExt cx="2738160" cy="5061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747600" y="285156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582720" y="285156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6321960" y="2851560"/>
                <a:ext cx="2808000" cy="506160"/>
                <a:chOff x="6321960" y="2851560"/>
                <a:chExt cx="2808000" cy="5061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6487560" y="285156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1960" y="285156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11160" y="3358080"/>
                <a:ext cx="1710000" cy="506160"/>
                <a:chOff x="11160" y="3358080"/>
                <a:chExt cx="1710000" cy="50616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176760" y="335808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1160" y="335808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1721880" y="3358080"/>
                <a:ext cx="1860120" cy="506160"/>
                <a:chOff x="1721880" y="3358080"/>
                <a:chExt cx="1860120" cy="50616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1887480" y="335808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nl-NL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721880" y="335808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3582720" y="3358080"/>
                <a:ext cx="2738160" cy="506160"/>
                <a:chOff x="3582720" y="3358080"/>
                <a:chExt cx="2738160" cy="50616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3747600" y="335808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582720" y="335808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6321960" y="3358080"/>
                <a:ext cx="2808000" cy="506160"/>
                <a:chOff x="6321960" y="3358080"/>
                <a:chExt cx="2808000" cy="50616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6487560" y="335808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21960" y="335808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11160" y="3864600"/>
                <a:ext cx="1710000" cy="506160"/>
                <a:chOff x="11160" y="3864600"/>
                <a:chExt cx="1710000" cy="50616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6760" y="386460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1160" y="386460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1721880" y="3864600"/>
                <a:ext cx="1860120" cy="506160"/>
                <a:chOff x="1721880" y="3864600"/>
                <a:chExt cx="1860120" cy="50616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1887480" y="386460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721880" y="386460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3582720" y="3864600"/>
                <a:ext cx="2738160" cy="506160"/>
                <a:chOff x="3582720" y="3864600"/>
                <a:chExt cx="2738160" cy="50616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3747600" y="386460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582720" y="386460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6321960" y="3864600"/>
                <a:ext cx="2808000" cy="506160"/>
                <a:chOff x="6321960" y="3864600"/>
                <a:chExt cx="2808000" cy="50616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6487560" y="386460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321960" y="386460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11160" y="4370760"/>
                <a:ext cx="1710000" cy="506160"/>
                <a:chOff x="11160" y="4370760"/>
                <a:chExt cx="1710000" cy="50616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176760" y="437076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1160" y="437076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1721880" y="4370760"/>
                <a:ext cx="1860120" cy="506160"/>
                <a:chOff x="1721880" y="4370760"/>
                <a:chExt cx="1860120" cy="5061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887480" y="437076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721880" y="437076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3582720" y="4370760"/>
                <a:ext cx="2738160" cy="506160"/>
                <a:chOff x="3582720" y="4370760"/>
                <a:chExt cx="2738160" cy="50616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747600" y="437076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nl-NL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582720" y="437076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321960" y="4370760"/>
                <a:ext cx="2808000" cy="506160"/>
                <a:chOff x="6321960" y="4370760"/>
                <a:chExt cx="2808000" cy="50616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487560" y="437076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321960" y="437076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11160" y="4877280"/>
                <a:ext cx="1710000" cy="506160"/>
                <a:chOff x="11160" y="4877280"/>
                <a:chExt cx="1710000" cy="5061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76760" y="487728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1160" y="487728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1721880" y="4877280"/>
                <a:ext cx="1860120" cy="506160"/>
                <a:chOff x="1721880" y="4877280"/>
                <a:chExt cx="1860120" cy="50616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1887480" y="487728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9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721880" y="487728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3582720" y="4877280"/>
                <a:ext cx="2738160" cy="506160"/>
                <a:chOff x="3582720" y="4877280"/>
                <a:chExt cx="2738160" cy="50616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747600" y="487728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582720" y="487728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6321960" y="4877280"/>
                <a:ext cx="2808000" cy="506160"/>
                <a:chOff x="6321960" y="4877280"/>
                <a:chExt cx="2808000" cy="5061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6487560" y="487728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321960" y="487728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11160" y="5383800"/>
                <a:ext cx="1710000" cy="506160"/>
                <a:chOff x="11160" y="5383800"/>
                <a:chExt cx="1710000" cy="50616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176760" y="5383800"/>
                  <a:ext cx="1378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1160" y="5383800"/>
                  <a:ext cx="1710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1721880" y="5383800"/>
                <a:ext cx="1860120" cy="506160"/>
                <a:chOff x="1721880" y="5383800"/>
                <a:chExt cx="1860120" cy="50616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1887480" y="5383800"/>
                  <a:ext cx="152820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721880" y="5383800"/>
                  <a:ext cx="186012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3582720" y="5383800"/>
                <a:ext cx="2738160" cy="506160"/>
                <a:chOff x="3582720" y="5383800"/>
                <a:chExt cx="2738160" cy="506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3747600" y="5383800"/>
                  <a:ext cx="240804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582720" y="5383800"/>
                  <a:ext cx="273816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6321960" y="5383800"/>
                <a:ext cx="2808000" cy="506160"/>
                <a:chOff x="6321960" y="5383800"/>
                <a:chExt cx="2808000" cy="5061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6487560" y="5383800"/>
                  <a:ext cx="2476080" cy="50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321960" y="5383800"/>
                  <a:ext cx="2808000" cy="506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11160" y="5889960"/>
                <a:ext cx="1710000" cy="506520"/>
                <a:chOff x="11160" y="5889960"/>
                <a:chExt cx="1710000" cy="5065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176760" y="5889960"/>
                  <a:ext cx="1378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3d</a:t>
                  </a: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1160" y="5889960"/>
                  <a:ext cx="1710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1721880" y="5889960"/>
                <a:ext cx="1860120" cy="506520"/>
                <a:chOff x="1721880" y="5889960"/>
                <a:chExt cx="1860120" cy="5065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1887480" y="5889960"/>
                  <a:ext cx="152820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D</a:t>
                  </a:r>
                  <a:r>
                    <a:rPr b="0" lang="nl-NL" sz="2400" spc="-1" strike="noStrike" baseline="-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721880" y="5889960"/>
                  <a:ext cx="186012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3582720" y="5889960"/>
                <a:ext cx="2738160" cy="506520"/>
                <a:chOff x="3582720" y="5889960"/>
                <a:chExt cx="2738160" cy="5065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747600" y="5889960"/>
                  <a:ext cx="240804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400" spc="-1" strike="noStrike" baseline="30000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2</a:t>
                  </a:r>
                  <a:r>
                    <a:rPr b="0" lang="nl-NL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582720" y="5889960"/>
                  <a:ext cx="273816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6321960" y="5889960"/>
                <a:ext cx="2808000" cy="506520"/>
                <a:chOff x="6321960" y="5889960"/>
                <a:chExt cx="2808000" cy="5065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487560" y="5889960"/>
                  <a:ext cx="2476080" cy="5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321960" y="5889960"/>
                  <a:ext cx="2808000" cy="506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799" name=""/>
            <p:cNvSpPr/>
            <p:nvPr/>
          </p:nvSpPr>
          <p:spPr>
            <a:xfrm>
              <a:off x="0" y="533520"/>
              <a:ext cx="9143280" cy="58672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igh-spin or Low-spi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915400" cy="652464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high-spin: Fe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304920" y="73080"/>
            <a:ext cx="8381880" cy="704844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low-spin: Fe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III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tacn)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6858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als3ti4.rcn to exti4.rc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als1ni2.plo to exti4.pl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als1ni2.rac to exti4.ra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un RCN2 and modify the exti4.rcf file in order to do crystal field multiplet calculation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alculate a crystal field multiplet spectrum for a crystal field of 0.0 eV, 1.52 eV and 3.04 eV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Modify the exti4.plo file to plot the 3 spectr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Repeat the calculation for negative valu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opy exti4.rcn to exco3.rcn and modify the file from Ti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4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to Co</a:t>
            </a:r>
            <a:r>
              <a:rPr b="0" lang="en-GB" sz="2400" spc="-1" strike="noStrike" baseline="30000">
                <a:solidFill>
                  <a:srgbClr val="333399"/>
                </a:solidFill>
                <a:latin typeface="Verdana"/>
                <a:ea typeface="Times New Roman"/>
              </a:rPr>
              <a:t>3+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Calculate a crystal field multiplet spectrum for a crystal field of 0.0 eV, 1.52 eV and 3.04 eV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Verdana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What happens between 1.52 eV and 3.04 eV?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ercise: Crystal Field Effects on Co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523880"/>
            <a:ext cx="9144000" cy="4717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% vertical 1 1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utler O3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o    Oh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ndchai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 0+ HAMILTONIAN ground  PRINTEIG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0+ &gt; 0 0+      1.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4+ &gt; 0 0+ 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 0+ HAMILTONIAN excite  PRINTEIG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HAMILTONIA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0+ &gt; 0 0+     1.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SHELL2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4+ &gt; 0 0+ 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actor  1- plane       transi PRINTTRAN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oper MULTIPOL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nch  1- &gt; 0 1-   1.00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UN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7524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Always the same rac-fil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in Oh symmet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8800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5107320" y="68580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 = 2.13 eV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4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3880"/>
            <a:ext cx="10972800" cy="252756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RANSFORMED MATRIX for TRIAD  2  (  0+   1-   1- 0) (1*7)  DIM :1:3:3   ACTOR PLANE     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--- MATRIX ----      PRINTTRANS    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BRA/KET :  461.1850  461.9710  463.0501  463.5387  465.4900  468.5141  470.937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.00000:  0.009445  0.015776  0.137714  0.021110  0.505803  0.346162  0.963990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RANSFORMATION FINISHE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95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7 lines with energy and intens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s in CTM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98800" y="7628040"/>
                <a:ext cx="12384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098800" y="7628040"/>
                <a:ext cx="950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1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98800" y="10186920"/>
                <a:ext cx="950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1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0" y="685800"/>
            <a:ext cx="9143640" cy="5790960"/>
            <a:chOff x="0" y="685800"/>
            <a:chExt cx="9143640" cy="5790960"/>
          </a:xfrm>
        </p:grpSpPr>
        <p:grpSp>
          <p:nvGrpSpPr>
            <p:cNvPr id="146" name=""/>
            <p:cNvGrpSpPr/>
            <p:nvPr/>
          </p:nvGrpSpPr>
          <p:grpSpPr>
            <a:xfrm>
              <a:off x="8280" y="692640"/>
              <a:ext cx="9125640" cy="5776200"/>
              <a:chOff x="8280" y="692640"/>
              <a:chExt cx="9125640" cy="57762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8280" y="692640"/>
                <a:ext cx="2417760" cy="962280"/>
                <a:chOff x="8280" y="692640"/>
                <a:chExt cx="2417760" cy="962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34280" y="692640"/>
                  <a:ext cx="21661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SO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280" y="692640"/>
                  <a:ext cx="24177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426400" y="692640"/>
                <a:ext cx="3905640" cy="962280"/>
                <a:chOff x="2426400" y="692640"/>
                <a:chExt cx="3905640" cy="962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552400" y="69264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O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h 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(Butler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426400" y="69264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332400" y="692640"/>
                <a:ext cx="2801520" cy="962280"/>
                <a:chOff x="6332400" y="692640"/>
                <a:chExt cx="2801520" cy="962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458400" y="692640"/>
                  <a:ext cx="254916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O</a:t>
                  </a:r>
                  <a:r>
                    <a:rPr b="0" lang="nl-NL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h </a:t>
                  </a:r>
                  <a:r>
                    <a:rPr b="0" lang="nl-NL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(Mulliken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32400" y="69264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8280" y="1655280"/>
                <a:ext cx="1199880" cy="962280"/>
                <a:chOff x="8280" y="1655280"/>
                <a:chExt cx="1199880" cy="962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34280" y="165528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280" y="165528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208520" y="1655280"/>
                <a:ext cx="1217160" cy="962280"/>
                <a:chOff x="1208520" y="1655280"/>
                <a:chExt cx="1217160" cy="962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334520" y="165528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208520" y="165528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426400" y="1655280"/>
                <a:ext cx="3905640" cy="962280"/>
                <a:chOff x="2426400" y="1655280"/>
                <a:chExt cx="3905640" cy="962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552400" y="165528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426400" y="165528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332400" y="1655280"/>
                <a:ext cx="2801520" cy="962280"/>
                <a:chOff x="6332400" y="1655280"/>
                <a:chExt cx="2801520" cy="962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58400" y="165528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32400" y="165528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8280" y="2617920"/>
                <a:ext cx="1199880" cy="962280"/>
                <a:chOff x="8280" y="2617920"/>
                <a:chExt cx="1199880" cy="962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34280" y="261792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280" y="261792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208520" y="2617920"/>
                <a:ext cx="1217160" cy="962280"/>
                <a:chOff x="1208520" y="2617920"/>
                <a:chExt cx="1217160" cy="962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334520" y="261792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208520" y="261792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426400" y="2617920"/>
                <a:ext cx="3905640" cy="962280"/>
                <a:chOff x="2426400" y="2617920"/>
                <a:chExt cx="3905640" cy="962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552400" y="261792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26400" y="261792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332400" y="2617920"/>
                <a:ext cx="2801520" cy="962280"/>
                <a:chOff x="6332400" y="2617920"/>
                <a:chExt cx="2801520" cy="962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58400" y="261792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332400" y="261792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8280" y="3580560"/>
                <a:ext cx="1199880" cy="962280"/>
                <a:chOff x="8280" y="3580560"/>
                <a:chExt cx="1199880" cy="962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34280" y="358056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80" y="358056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208520" y="3580560"/>
                <a:ext cx="1217160" cy="962280"/>
                <a:chOff x="1208520" y="3580560"/>
                <a:chExt cx="1217160" cy="962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334520" y="358056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08520" y="358056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426400" y="3580560"/>
                <a:ext cx="3905640" cy="962280"/>
                <a:chOff x="2426400" y="3580560"/>
                <a:chExt cx="3905640" cy="9622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552400" y="358056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 + ^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26400" y="358056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332400" y="3580560"/>
                <a:ext cx="2801520" cy="962280"/>
                <a:chOff x="6332400" y="3580560"/>
                <a:chExt cx="2801520" cy="962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458400" y="358056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E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332400" y="358056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8280" y="4543200"/>
                <a:ext cx="1199880" cy="962640"/>
                <a:chOff x="8280" y="4543200"/>
                <a:chExt cx="1199880" cy="9626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34280" y="4543200"/>
                  <a:ext cx="947520" cy="96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80" y="4543200"/>
                  <a:ext cx="119988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208520" y="4543200"/>
                <a:ext cx="1217160" cy="962640"/>
                <a:chOff x="1208520" y="4543200"/>
                <a:chExt cx="1217160" cy="9626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334520" y="4543200"/>
                  <a:ext cx="965520" cy="96264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208520" y="4543200"/>
                  <a:ext cx="121716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426400" y="4543200"/>
                <a:ext cx="3905640" cy="962640"/>
                <a:chOff x="2426400" y="4543200"/>
                <a:chExt cx="3905640" cy="962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552400" y="4543200"/>
                  <a:ext cx="3653280" cy="96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^0+ 1 +^1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426400" y="4543200"/>
                  <a:ext cx="390564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332400" y="4543200"/>
                <a:ext cx="2801520" cy="962640"/>
                <a:chOff x="6332400" y="4543200"/>
                <a:chExt cx="2801520" cy="962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458400" y="4543200"/>
                  <a:ext cx="2549160" cy="962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332400" y="4543200"/>
                  <a:ext cx="2801520" cy="96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8280" y="5506560"/>
                <a:ext cx="1199880" cy="962280"/>
                <a:chOff x="8280" y="5506560"/>
                <a:chExt cx="1199880" cy="9622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34280" y="5506560"/>
                  <a:ext cx="94752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G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80" y="5506560"/>
                  <a:ext cx="119988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208520" y="5506560"/>
                <a:ext cx="1217160" cy="962280"/>
                <a:chOff x="1208520" y="5506560"/>
                <a:chExt cx="1217160" cy="9622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334520" y="5506560"/>
                  <a:ext cx="965520" cy="9622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08520" y="5506560"/>
                  <a:ext cx="121716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426400" y="5506560"/>
                <a:ext cx="3905640" cy="962280"/>
                <a:chOff x="2426400" y="5506560"/>
                <a:chExt cx="3905640" cy="962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552400" y="5506560"/>
                  <a:ext cx="3653280" cy="96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0 + 1 + 2 + ^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426400" y="5506560"/>
                  <a:ext cx="390564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332400" y="5506560"/>
                <a:ext cx="2801520" cy="962280"/>
                <a:chOff x="6332400" y="5506560"/>
                <a:chExt cx="2801520" cy="962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458400" y="5506560"/>
                  <a:ext cx="2549160" cy="962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A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E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1</a:t>
                  </a: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+T</a:t>
                  </a:r>
                  <a:r>
                    <a:rPr b="0" lang="en-US" sz="2800" spc="-1" strike="noStrike" baseline="-30000">
                      <a:solidFill>
                        <a:srgbClr val="0000ff"/>
                      </a:solidFill>
                      <a:latin typeface="Verdana"/>
                      <a:ea typeface="Arial Unicode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332400" y="5506560"/>
                  <a:ext cx="2801520" cy="962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0" y="685800"/>
              <a:ext cx="9143640" cy="579096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Crystal Field Effect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-762120" y="838080"/>
            <a:ext cx="990612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TiO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=0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rite out all term symbol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atomic multiplets)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990720"/>
            <a:ext cx="9143280" cy="4670280"/>
            <a:chOff x="0" y="990720"/>
            <a:chExt cx="9143280" cy="4670280"/>
          </a:xfrm>
        </p:grpSpPr>
        <p:grpSp>
          <p:nvGrpSpPr>
            <p:cNvPr id="221" name=""/>
            <p:cNvGrpSpPr/>
            <p:nvPr/>
          </p:nvGrpSpPr>
          <p:grpSpPr>
            <a:xfrm>
              <a:off x="9360" y="995400"/>
              <a:ext cx="9123120" cy="4660920"/>
              <a:chOff x="9360" y="995400"/>
              <a:chExt cx="9123120" cy="46609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9360" y="995400"/>
                <a:ext cx="1648800" cy="822240"/>
                <a:chOff x="9360" y="995400"/>
                <a:chExt cx="1648800" cy="8222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47240" y="995400"/>
                  <a:ext cx="1372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J in S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9360" y="995400"/>
                  <a:ext cx="16488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658880" y="995400"/>
                <a:ext cx="1186200" cy="822240"/>
                <a:chOff x="1658880" y="995400"/>
                <a:chExt cx="1186200" cy="8222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796040" y="995400"/>
                  <a:ext cx="911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58880" y="995400"/>
                  <a:ext cx="11862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846160" y="995400"/>
                <a:ext cx="3308400" cy="822240"/>
                <a:chOff x="2846160" y="995400"/>
                <a:chExt cx="3308400" cy="822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984400" y="995400"/>
                  <a:ext cx="3031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Branching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846160" y="995400"/>
                  <a:ext cx="330840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55280" y="995400"/>
                <a:ext cx="1609560" cy="822240"/>
                <a:chOff x="6155280" y="995400"/>
                <a:chExt cx="1609560" cy="8222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292440" y="995400"/>
                  <a:ext cx="133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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in O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55280" y="995400"/>
                  <a:ext cx="1609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7765920" y="995400"/>
                <a:ext cx="1366560" cy="822240"/>
                <a:chOff x="7765920" y="995400"/>
                <a:chExt cx="1366560" cy="822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903800" y="995400"/>
                  <a:ext cx="10904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Deg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765920" y="995400"/>
                  <a:ext cx="13665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9360" y="1817640"/>
                <a:ext cx="1648800" cy="639720"/>
                <a:chOff x="9360" y="1817640"/>
                <a:chExt cx="1648800" cy="6397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47240" y="181764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9360" y="181764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658880" y="1817640"/>
                <a:ext cx="1186200" cy="639720"/>
                <a:chOff x="1658880" y="1817640"/>
                <a:chExt cx="1186200" cy="6397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796040" y="181764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658880" y="181764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846160" y="1817640"/>
                <a:ext cx="3308400" cy="639720"/>
                <a:chOff x="2846160" y="1817640"/>
                <a:chExt cx="3308400" cy="6397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984400" y="181764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46160" y="181764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155280" y="1817640"/>
                <a:ext cx="1609560" cy="639720"/>
                <a:chOff x="6155280" y="1817640"/>
                <a:chExt cx="1609560" cy="6397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292440" y="181764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155280" y="181764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765920" y="1817640"/>
                <a:ext cx="1366560" cy="639720"/>
                <a:chOff x="7765920" y="1817640"/>
                <a:chExt cx="1366560" cy="6397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903800" y="181764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765920" y="181764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9360" y="2457360"/>
                <a:ext cx="1648800" cy="639720"/>
                <a:chOff x="9360" y="2457360"/>
                <a:chExt cx="1648800" cy="6397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47240" y="2457360"/>
                  <a:ext cx="137268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9360" y="24573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658880" y="2457360"/>
                <a:ext cx="1186200" cy="639720"/>
                <a:chOff x="1658880" y="2457360"/>
                <a:chExt cx="1186200" cy="6397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796040" y="2457360"/>
                  <a:ext cx="911520" cy="639720"/>
                </a:xfrm>
                <a:prstGeom prst="rect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58880" y="24573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846160" y="2457360"/>
                <a:ext cx="3308400" cy="639720"/>
                <a:chOff x="2846160" y="2457360"/>
                <a:chExt cx="3308400" cy="6397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984400" y="24573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46160" y="24573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155280" y="2457360"/>
                <a:ext cx="1609560" cy="639720"/>
                <a:chOff x="6155280" y="2457360"/>
                <a:chExt cx="1609560" cy="6397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292440" y="24573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155280" y="24573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7765920" y="2457360"/>
                <a:ext cx="1366560" cy="639720"/>
                <a:chOff x="7765920" y="2457360"/>
                <a:chExt cx="1366560" cy="6397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903800" y="24573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765920" y="24573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360" y="3097080"/>
                <a:ext cx="1648800" cy="640080"/>
                <a:chOff x="9360" y="3097080"/>
                <a:chExt cx="1648800" cy="640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47240" y="3097080"/>
                  <a:ext cx="1372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360" y="3097080"/>
                  <a:ext cx="16488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658880" y="3097080"/>
                <a:ext cx="1186200" cy="640080"/>
                <a:chOff x="1658880" y="3097080"/>
                <a:chExt cx="1186200" cy="6400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796040" y="3097080"/>
                  <a:ext cx="9115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658880" y="3097080"/>
                  <a:ext cx="11862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846160" y="3097080"/>
                <a:ext cx="3308400" cy="640080"/>
                <a:chOff x="2846160" y="3097080"/>
                <a:chExt cx="3308400" cy="640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984400" y="3097080"/>
                  <a:ext cx="3031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, 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46160" y="3097080"/>
                  <a:ext cx="330840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155280" y="3097080"/>
                <a:ext cx="1609560" cy="640080"/>
                <a:chOff x="6155280" y="3097080"/>
                <a:chExt cx="1609560" cy="640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292440" y="3097080"/>
                  <a:ext cx="133488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55280" y="3097080"/>
                  <a:ext cx="1609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765920" y="3097080"/>
                <a:ext cx="1366560" cy="640080"/>
                <a:chOff x="7765920" y="3097080"/>
                <a:chExt cx="1366560" cy="640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903800" y="3097080"/>
                  <a:ext cx="1090440" cy="640080"/>
                </a:xfrm>
                <a:prstGeom prst="rect">
                  <a:avLst/>
                </a:prstGeom>
                <a:solidFill>
                  <a:srgbClr val="ff99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765920" y="3097080"/>
                  <a:ext cx="1366560" cy="640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9360" y="3737160"/>
                <a:ext cx="1648800" cy="639720"/>
                <a:chOff x="9360" y="3737160"/>
                <a:chExt cx="1648800" cy="6397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47240" y="373716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360" y="373716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658880" y="3737160"/>
                <a:ext cx="1186200" cy="639720"/>
                <a:chOff x="1658880" y="3737160"/>
                <a:chExt cx="1186200" cy="639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1796040" y="373716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658880" y="373716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46160" y="3737160"/>
                <a:ext cx="3308400" cy="639720"/>
                <a:chOff x="2846160" y="3737160"/>
                <a:chExt cx="3308400" cy="6397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984400" y="373716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46160" y="373716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155280" y="3737160"/>
                <a:ext cx="1609560" cy="639720"/>
                <a:chOff x="6155280" y="3737160"/>
                <a:chExt cx="1609560" cy="6397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292440" y="373716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155280" y="373716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7765920" y="3737160"/>
                <a:ext cx="1366560" cy="639720"/>
                <a:chOff x="7765920" y="3737160"/>
                <a:chExt cx="1366560" cy="6397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903800" y="373716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765920" y="373716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9360" y="4376880"/>
                <a:ext cx="1648800" cy="639720"/>
                <a:chOff x="9360" y="4376880"/>
                <a:chExt cx="1648800" cy="6397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47240" y="437688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9360" y="437688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658880" y="4376880"/>
                <a:ext cx="1186200" cy="639720"/>
                <a:chOff x="1658880" y="4376880"/>
                <a:chExt cx="1186200" cy="6397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796040" y="437688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58880" y="437688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846160" y="4376880"/>
                <a:ext cx="3308400" cy="639720"/>
                <a:chOff x="2846160" y="4376880"/>
                <a:chExt cx="3308400" cy="6397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984400" y="437688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A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, E, 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, 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T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846160" y="437688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155280" y="4376880"/>
                <a:ext cx="1609560" cy="639720"/>
                <a:chOff x="6155280" y="4376880"/>
                <a:chExt cx="1609560" cy="6397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292440" y="437688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55280" y="437688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765920" y="4376880"/>
                <a:ext cx="1366560" cy="639720"/>
                <a:chOff x="7765920" y="4376880"/>
                <a:chExt cx="1366560" cy="6397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7903800" y="437688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765920" y="437688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9360" y="5016600"/>
                <a:ext cx="1648800" cy="639720"/>
                <a:chOff x="9360" y="5016600"/>
                <a:chExt cx="1648800" cy="6397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47240" y="5016600"/>
                  <a:ext cx="1372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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9360" y="5016600"/>
                  <a:ext cx="16488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658880" y="5016600"/>
                <a:ext cx="1186200" cy="639720"/>
                <a:chOff x="1658880" y="5016600"/>
                <a:chExt cx="1186200" cy="6397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796040" y="5016600"/>
                  <a:ext cx="9115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58880" y="5016600"/>
                  <a:ext cx="11862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846160" y="5016600"/>
                <a:ext cx="3308400" cy="639720"/>
                <a:chOff x="2846160" y="5016600"/>
                <a:chExt cx="3308400" cy="639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984400" y="5016600"/>
                  <a:ext cx="3031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46160" y="5016600"/>
                  <a:ext cx="330840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155280" y="5016600"/>
                <a:ext cx="1609560" cy="639720"/>
                <a:chOff x="6155280" y="5016600"/>
                <a:chExt cx="1609560" cy="639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292440" y="5016600"/>
                  <a:ext cx="133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Courier New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55280" y="5016600"/>
                  <a:ext cx="1609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7765920" y="5016600"/>
                <a:ext cx="1366560" cy="639720"/>
                <a:chOff x="7765920" y="5016600"/>
                <a:chExt cx="1366560" cy="639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903800" y="5016600"/>
                  <a:ext cx="1090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  <a:ea typeface="Arial Unicode MS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765920" y="5016600"/>
                  <a:ext cx="1366560" cy="639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0" y="990720"/>
              <a:ext cx="9143280" cy="46702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419720" y="2362320"/>
            <a:ext cx="380880" cy="53316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43434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3657600"/>
            <a:ext cx="380880" cy="533520"/>
          </a:xfrm>
          <a:prstGeom prst="ellipse">
            <a:avLst/>
          </a:prstGeom>
          <a:solidFill>
            <a:srgbClr val="ffffcc">
              <a:alpha val="50000"/>
            </a:srgbClr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rystal Field Effect on XA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"/>
          <p:cNvSpPr/>
          <p:nvPr/>
        </p:nvSpPr>
        <p:spPr>
          <a:xfrm>
            <a:off x="1623960" y="5791320"/>
            <a:ext cx="564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dipole|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 goes to &lt;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21:38:46Z</dcterms:modified>
  <cp:revision>252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